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17A2-93E4-4E9B-9B41-D4972E2EC5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BB18-F6EC-4512-A00B-066E5F3387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D5E2-DDD4-4945-8CC0-EF0A0000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2F27-A63E-4B85-8D3C-7AD655D2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23FB-21CF-4B3A-8D5F-494BB178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B63-9B8D-4506-BF26-EFD15ED8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131-4C23-40A4-BE29-796C0606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BC77-C8E6-47C1-A3C9-6BCC9ADD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8E4-5BC5-40B2-8802-243FD848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C20-A062-457A-A914-B9020068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53E-187A-48C4-AD0D-D5F0349A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3E4-C9AF-4507-98E2-5072F043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5E8-B47F-4720-961D-E7CF1FED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EC13-2679-477F-847D-B2535403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27EB-29BB-445F-A390-8F106FB585BA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сероссийский конкурс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Учитель года России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Рекомендации при подготовке к конкурс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7493040" cy="1285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400" spc="-1" strike="noStrike">
                <a:solidFill>
                  <a:srgbClr val="1f497d"/>
                </a:solidFill>
                <a:latin typeface="Verdana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547040" cy="1468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дготовке выступления  и  в самом выступлен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пределении собственных концептуальных пози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выделении в собственном педагогическом опыте наиболее ценных составля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азательности актуальности и новизны применяемых методов, способов, технологий обучения и воспитания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чествен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 логичном представлении  собствен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 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мпетент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самоанали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ного учебного занятия в соответствии с представленны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предмета разговора, т.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О ЧЁМ ВЫ ХОТИТ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РАССКАЗАТЬ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объёма информ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Вы хотите рассказать свою педагогическую биографию или представить на обсуждение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Verdana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формы представления своего опыт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Помним: жанр конкурса – это не защита диссертации, но и не бурный поток созна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На построении логики выступ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ЧТО? Откуда взялось?  Кем придума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ЧЕГО (достижения какого результата) использует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КАК разрабатывалось и приобретало практические очертания и технологические конструк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жет именно здесь сказать о взаимодействии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ути взаимодействия ( С КЕМ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Условия реализа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И постоянно помним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образования – одно из основных требован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учебных занятий – один из основных критериев конкурсны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зада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3870720" y="3244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онкурсные задания – 2016 год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дагогическая лаборатория учителя (в формате презентации на педагогическом совете/ методическом семинаре / М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Это важн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ните, что учебное занятие должно раскрывать основные положения Вашего выступления на этапе «Педагогическая лаборатория учителя», в некоторой степени иллюстрировать 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ремятся увидеть члены жюр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содержанием предм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оригинальность раскрытия темы учебного занят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успешной работы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снованность использованных методов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предметность 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Verdana"/>
              </a:rPr>
              <a:t>Что такое мастер-класс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ребования к участнику конкурса: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4153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убо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етод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дакт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готов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;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знания психолого-педагогических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еоретических оснований представляемого опыт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ниман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ременных концепций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этап «Методический семинар»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1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вести ревизию своего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2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пределить тему представляемого опыта, сформулировать е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3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ставить план свое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4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написать текст выступ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5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отнести свое выступление с предъявляемыми в условиях конкурса критериям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6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- подготовить компьютерную презентацию к своему выступлению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7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трепетировать выступление перед публикой (зеркало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мерный (возможный) план выступл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Что? Зачем? Как? Что получа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 опыта (проблема из противоречий в образован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, задачи, которые ставите для решения пробле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ления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я (сотрудничеств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и, методики, используемые в работе (найти «изюминку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 (прогнозируемый и реаль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е педагогическое кре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и прав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ические ц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онкурсные задания в номинации «Педагогический дебют - 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разовательный про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ческий дебют –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минации могут принимать участие учителя-предметники образовательных организаций со стажем работы от 0 до 5 л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я культуры проектирования в образовании, видения существующих проблем и путей их решения, умения продуктивно работать в команде и выстраивать конструктивное взаимодей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т конкурсного зад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руппы из 4 конкурсантов (состав определяется жребием) в течение 15 минут проводят обсуждение и выбирают тему образовательного проекта, распределяют зоны ответственности каждого члена команды. Группы получают не менее 1 часа для разработки образовательного проекта и его оформления в электронном и/или другом формате. Для представления образовательного проекта на сцене группа получает 20 минут и в течение 10 минут отвечает на вопросы жю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конкурсного зад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деятельност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онная и языковая культур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и реалистичность решени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 и оригинальность в представлении проек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Желаю успехов всем участникам конкурса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3" descr="j0301252"/>
          <p:cNvPicPr/>
          <p:nvPr/>
        </p:nvPicPr>
        <p:blipFill>
          <a:blip r:embed="rId1"/>
          <a:stretch/>
        </p:blipFill>
        <p:spPr>
          <a:xfrm>
            <a:off x="2209680" y="2674800"/>
            <a:ext cx="40388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ные мероприятия 2 тура. Педагогическая лаборатория учителя (регламент до 12 минут, включая вопрос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Формат: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тное представление конкурсантом своего профессионального опыта как опыта, сформировавшегося при взаимодействии с коллегами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ями различных предметов, педагогами и специалистами образовательных учреждений    разных типов и видов, родителями учеников, общественными организациями, работниками   науки, культуры, сферы здравоохранения, представителями других сфе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и оценива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темой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эффективность внедрения инноваций в педагогическую практику, ценность педагогических социальных системных  эффектов, эффективность представленных форм взаимодействия, практическая значимость представленных форм трансляции опыта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широта кругозора, психолого-педагогическая и методическая грамотность, понимание государственной стратегии в области образования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логичность изложения материала, связная устная речь, эмоциональное воздействие на аудиторию, культура использования ИКТ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методической т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6:24:41Z</dcterms:created>
  <dc:creator>Пахомова</dc:creator>
  <dc:description/>
  <dc:language>en-US</dc:language>
  <cp:lastModifiedBy>Лариса Сомова</cp:lastModifiedBy>
  <dcterms:modified xsi:type="dcterms:W3CDTF">2015-12-29T23:25:59Z</dcterms:modified>
  <cp:revision>46</cp:revision>
  <dc:subject/>
  <dc:title>Представление опыта</dc:title>
</cp:coreProperties>
</file>